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091880" y="254160"/>
            <a:ext cx="10820520" cy="9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091880" y="5762160"/>
            <a:ext cx="108205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6240" y="25779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9188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6240" y="5762160"/>
            <a:ext cx="528012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5056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409240" y="25779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09188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75056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409240" y="5762160"/>
            <a:ext cx="3484080" cy="2907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1880" y="355680"/>
            <a:ext cx="1082052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91880" y="1460160"/>
            <a:ext cx="10820520" cy="76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1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87320" y="762120"/>
            <a:ext cx="11430000" cy="8204040"/>
          </a:xfrm>
          <a:prstGeom prst="roundRect">
            <a:avLst>
              <a:gd name="adj" fmla="val 926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1091880" y="1383840"/>
            <a:ext cx="10820520" cy="6985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417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787680" indent="-41724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0564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2360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041560" indent="-417600">
              <a:spcBef>
                <a:spcPts val="4799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91880" y="3466800"/>
            <a:ext cx="10820520" cy="2832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Palatin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760" y="8381880"/>
            <a:ext cx="9194760" cy="4701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904760" y="8788320"/>
            <a:ext cx="9194760" cy="419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rmAutofit fontScale="17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1">
              <a:buClr>
                <a:srgbClr val="ffffff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2">
              <a:buClr>
                <a:srgbClr val="ffffff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3">
              <a:buClr>
                <a:srgbClr val="ffffff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4">
              <a:buClr>
                <a:srgbClr val="ffffff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5">
              <a:buClr>
                <a:srgbClr val="6d6d6d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  <a:p>
            <a:pPr lvl="6">
              <a:buClr>
                <a:srgbClr val="6d6d6d"/>
              </a:buClr>
              <a:buFont typeface="Palatino Bold Ital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Palatino Bold Italic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Palatino Bold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8000"/>
          </a:bodyPr>
          <a:p>
            <a:pPr marL="43560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821160" indent="-4352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25676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6927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2128320" indent="-4356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87320" y="2324160"/>
            <a:ext cx="11430000" cy="6642000"/>
          </a:xfrm>
          <a:prstGeom prst="roundRect">
            <a:avLst>
              <a:gd name="adj" fmla="val 1144"/>
            </a:avLst>
          </a:prstGeom>
          <a:solidFill>
            <a:srgbClr val="fffefb">
              <a:alpha val="94000"/>
            </a:srgbClr>
          </a:solidFill>
          <a:ln w="0">
            <a:noFill/>
          </a:ln>
          <a:effectLst>
            <a:outerShdw dist="12600" dir="16200000" blurRad="0" rotWithShape="0">
              <a:srgbClr val="00000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641640" y="2577960"/>
            <a:ext cx="527076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092240" y="2577960"/>
            <a:ext cx="527040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3000"/>
          </a:bodyPr>
          <a:p>
            <a:pPr marL="36900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1" marL="695520" indent="-36864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2" marL="1064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3" marL="1433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4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5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lvl="6" marL="1802520" indent="-369000">
              <a:spcBef>
                <a:spcPts val="3200"/>
              </a:spcBef>
              <a:buClr>
                <a:srgbClr val="6d6d6d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2240" y="1638360"/>
            <a:ext cx="5270400" cy="32385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Palatino Bold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092240" y="4863600"/>
            <a:ext cx="5270400" cy="3327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 fontScale="7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1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2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3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4" algn="ctr">
              <a:buClr>
                <a:srgbClr val="fffff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5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lvl="6" algn="ctr">
              <a:buClr>
                <a:srgbClr val="6d6d6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91880" y="355320"/>
            <a:ext cx="10820520" cy="2400120"/>
          </a:xfrm>
          <a:prstGeom prst="rect">
            <a:avLst/>
          </a:prstGeom>
          <a:solidFill>
            <a:srgbClr val="b7b100"/>
          </a:solidFill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Palatino Bold"/>
              </a:rPr>
              <a:t>Assessing Reading: Tovani 7, 8, 9</a:t>
            </a:r>
            <a:endParaRPr b="0" lang="en-US" sz="6200" spc="-1" strike="noStrike">
              <a:solidFill>
                <a:srgbClr val="ffffff"/>
              </a:solidFill>
              <a:latin typeface="Palatino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93400" y="3327120"/>
            <a:ext cx="10820520" cy="2400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0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Jeta Donovan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Palatino"/>
              </a:rPr>
              <a:t>March 8, 2012</a:t>
            </a: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Palatin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Agenda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Reading Fill-In the Blank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Text-Mark Up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Prompts AND Small Group Discussion Rubric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Assessing Readers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Form Reading Partnerships.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Partner A will begin reading the text aloud. Whenever you get to a part in ALL CAPS and in brackets, partner B should fill in a response.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d6d6d"/>
                </a:solidFill>
                <a:latin typeface="Palatino"/>
              </a:rPr>
              <a:t>At the text break, partners switch roles. </a:t>
            </a: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Reading Fill-in The blank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-44460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Each group will get a math story. Your goal is not to complete the problem but to mark up the text with your questions and comments.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marL="444600" indent="-44460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Each member will have a role in the types of comments they should make on the text: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Questioner: Asks questions to deepen or clarify understanding.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Connector: Make comments that connect to outside experiences, prior knowledge, other texts, or world events.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Summarizer: Makes comments that paraphrase and synthesize meaning of the text.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  <a:p>
            <a:pPr lvl="1" marL="888840" indent="-44424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d6d6d"/>
                </a:solidFill>
                <a:latin typeface="Palatino"/>
              </a:rPr>
              <a:t>Vocabulary Decoder: Makes notes about meaning and importance of vocabulary in the reading. </a:t>
            </a:r>
            <a:endParaRPr b="0" lang="en-US" sz="2400" spc="-1" strike="noStrike">
              <a:solidFill>
                <a:srgbClr val="6d6d6d"/>
              </a:solidFill>
              <a:latin typeface="Palatino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Text Mark-Up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Scored Discussion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315360" indent="-31536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ositive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32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s an opinion (2)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relevant comment (1)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a position with facts (2)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s another person into the discussion (1)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s contradictions in another person’s statements (2)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s irrelevant comments (2)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a connection/analogy (2)____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ks a question that moves the discussion along (1)__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or refers to another person’s opinion (1)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on previous point (1)____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vocabulary regarding specific content or concepts taught in this class (1)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egative 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pay attention/distracts others (-2)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s (-2)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irrelevant comment (-1)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polizes the discussion (-3)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s in personal attacks (-3)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  <a:p>
            <a:pPr marL="315360" indent="-3153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52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inappropriate language (-2)____________________</a:t>
            </a:r>
            <a:endParaRPr b="0" lang="en-US" sz="18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91880" y="254160"/>
            <a:ext cx="10820520" cy="1993680"/>
          </a:xfrm>
          <a:prstGeom prst="rect">
            <a:avLst/>
          </a:prstGeom>
          <a:solidFill>
            <a:srgbClr val="89980e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7f7f7f"/>
                </a:solidFill>
                <a:latin typeface="Palatino Bold"/>
              </a:rPr>
              <a:t>Assessing Literacy</a:t>
            </a:r>
            <a:endParaRPr b="0" lang="en-US" sz="5900" spc="-1" strike="noStrike">
              <a:solidFill>
                <a:srgbClr val="7f7f7f"/>
              </a:solidFill>
              <a:latin typeface="Palatino 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91880" y="2577960"/>
            <a:ext cx="10820520" cy="6096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44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  <a:p>
            <a:pPr marL="44460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6d6d6d"/>
              </a:solidFill>
              <a:latin typeface="Palatin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