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5160" y="247644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65160" y="5384880"/>
            <a:ext cx="1107432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65160" y="1320480"/>
            <a:ext cx="11074320" cy="71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6576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72000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11996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51992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028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5160" y="341640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1440" y="6716880"/>
            <a:ext cx="11712600" cy="6858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65160" y="6477120"/>
            <a:ext cx="1107432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65160" y="8292600"/>
            <a:ext cx="110743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65160" y="247644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A novel Idea: </a:t>
            </a:r>
            <a:br>
              <a:rPr sz="6400"/>
            </a:b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Purpose and thinking in Reading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65160" y="5384880"/>
            <a:ext cx="1107432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Jeta Donovan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March 1, 2012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Agenda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Reading for Purpose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pectrum Sor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Prompts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Paraphrase It! 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Upcoming Assignments  (Lesson Reflection, Case Study)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Reading for purpose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385920" indent="-3859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rst read: Circle whatever you think is important. 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385920" indent="-3859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read: Underline what a robber would find important. 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385920" indent="-3859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read: squiggle underline prospective home-buyers would find important. 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marL="385920" indent="-3859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What do you notice about the three separate times you highlighted? 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Paraphrase it!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65160" y="2704680"/>
            <a:ext cx="11074320" cy="6705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Create groups of 4, and decide on the following roles: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Recorder—responsible for recording answers</a:t>
            </a:r>
            <a:r>
              <a:rPr b="0" lang="en-US" sz="2400" spc="-1" strike="noStrike">
                <a:solidFill>
                  <a:srgbClr val="ebcd9c"/>
                </a:solidFill>
                <a:latin typeface="Gill Sans"/>
                <a:ea typeface="ヒラギノ角ゴ ProN W3"/>
              </a:rPr>
              <a:t>	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Messenger—responsible for physically delivering and receiving work from other groups 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Reader/Reporter—responsible for reading article aloud to group/reporting out information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Supervisor—responsible for keeping group on task and checking/evaluating group’s work. 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406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Read article assigned to you, and write 25-30 words to summarize article. MUST use this # of words.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Pass your summary to a group to the right.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Read group’s article 1 summary, and write a 10-15 word summary. 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Pass your summary to a group to the right. 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cd9c"/>
                </a:solidFill>
                <a:latin typeface="Gill Sans"/>
              </a:rPr>
              <a:t>Read group’s article 2 summary, and write a 5-7 word </a:t>
            </a:r>
            <a:endParaRPr b="0" lang="en-US" sz="24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65160" y="304920"/>
            <a:ext cx="11074320" cy="1092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ase Study Requirements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73200" y="1295280"/>
          <a:ext cx="9383760" cy="7962840"/>
        </p:xfrm>
        <a:graphic>
          <a:graphicData uri="http://schemas.openxmlformats.org/drawingml/2006/table">
            <a:tbl>
              <a:tblPr/>
              <a:tblGrid>
                <a:gridCol w="1442880"/>
                <a:gridCol w="6959880"/>
                <a:gridCol w="981000"/>
              </a:tblGrid>
              <a:tr h="1157400">
                <a:tc>
                  <a:txBody>
                    <a:bodyPr lIns="63360" rIns="63360" tIns="63360" bIns="63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Introduction to Student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Provides academic, social, and personal background of student.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Provides a larger picture of student’s literacy strengths and weaknesses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 Explains justification for selection of student for case study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 Bold"/>
                          <a:ea typeface="Georgia Bold"/>
                        </a:rPr>
                        <a:t>/5</a:t>
                      </a: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4124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Assessment of Student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Describes a variety of assessments used to evaluate student.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Makes connections between assessments and background knowledge to analyze the student’s strengths and weaknesses.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Draws insightful and logical conclusions about the needs of this student.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Articulates corresponding focus/foci for instruction.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 Bold"/>
                          <a:ea typeface="Georgia Bold"/>
                        </a:rPr>
                        <a:t>/10</a:t>
                      </a: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2436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Instructional Practice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Designs and implements at least 5 instructional activities with student. 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Activities demonstrate expert knowledge of literacy process and instructional practices. 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Activities are designed to meet student’s specific needs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Activities show a progression designed to move student forward in instructional focus/foci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Activities show attention to student’s interest and motivation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 Bold"/>
                          <a:ea typeface="Georgia Bold"/>
                        </a:rPr>
                        <a:t>/10</a:t>
                      </a: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4124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Reflection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marL="108000" indent="-1080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Analyzes impact of instructional practice on student’s literacy, evaluating particular strengths and weaknesses.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Utilizes student work or observation of student to support conclusions. 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 marL="108000" indent="-10800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Includes insightful and logical means for improving practice based on this experience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 Bold"/>
                          <a:ea typeface="Georgia Bold"/>
                        </a:rPr>
                        <a:t>/10</a:t>
                      </a: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98600"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Requirements and Presentation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 marL="101520" indent="-101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Utilizes at least 2 outside sources and demonstrates a solid, logical research base for work with student. 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Follows conventions and style of academic writing. 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Uses APA format and citations. 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 marL="101520" indent="-10152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56000"/>
                        <a:buFont typeface="Georgia"/>
                        <a:buChar char="*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Includes a reference page. </a:t>
                      </a:r>
                      <a:endParaRPr b="0" lang="en-US" sz="14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3360" rIns="63360" tIns="63360" bIns="63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 Bold"/>
                          <a:ea typeface="Georgia Bold"/>
                        </a:rPr>
                        <a:t>/5</a:t>
                      </a: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 Bold"/>
                          <a:ea typeface="Georgia Bold"/>
                        </a:rPr>
                        <a:t>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 Bold"/>
                          <a:ea typeface="Georgia Bold"/>
                        </a:rPr>
                        <a:t>TOTAL: /40</a:t>
                      </a:r>
                      <a:endParaRPr b="0" lang="en-US" sz="1200" spc="-1" strike="noStrike">
                        <a:solidFill>
                          <a:srgbClr val="ebcd9c"/>
                        </a:solidFill>
                        <a:latin typeface="Gill Sans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