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041120" y="520200"/>
            <a:ext cx="1092204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120" y="1828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1120" y="5245200"/>
            <a:ext cx="1092204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algn="ctr">
              <a:spcBef>
                <a:spcPts val="1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1003320" y="8064360"/>
            <a:ext cx="10998360" cy="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96516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4097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854360" indent="-57168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298600" indent="-5713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09920" y="276840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1120" y="6959520"/>
            <a:ext cx="1092204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041120" y="8292960"/>
            <a:ext cx="1092204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algn="ctr">
              <a:buClr>
                <a:srgbClr val="49433e"/>
              </a:buClr>
              <a:buFont typeface="Bradley Hand ITC TT-Bol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03320" y="811548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120" y="2971800"/>
            <a:ext cx="109220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6400" spc="-1" strike="noStrike">
              <a:solidFill>
                <a:srgbClr val="49433e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Click to edit the title text format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5029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4924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4056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631520" indent="-50292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2022480" indent="-502560">
              <a:spcBef>
                <a:spcPts val="3200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003320" y="2222640"/>
            <a:ext cx="10998360" cy="6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body"/>
          </p:nvPr>
        </p:nvSpPr>
        <p:spPr>
          <a:xfrm>
            <a:off x="1041120" y="1828440"/>
            <a:ext cx="1092204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49140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1" marL="82980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2" marL="121212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3" marL="1594440" indent="-49140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4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5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lvl="6" marL="1976760" indent="-491040">
              <a:spcBef>
                <a:spcPts val="5199"/>
              </a:spcBef>
              <a:buClr>
                <a:srgbClr val="49433e"/>
              </a:buClr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1120" y="1828440"/>
            <a:ext cx="10922040" cy="2616120"/>
          </a:xfrm>
          <a:prstGeom prst="rect">
            <a:avLst/>
          </a:prstGeom>
          <a:solidFill>
            <a:srgbClr val="001445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9433e"/>
                </a:solidFill>
                <a:latin typeface="Gill Sans Light"/>
              </a:rPr>
              <a:t>We are definitely Super</a:t>
            </a:r>
            <a:r>
              <a:rPr b="1" lang="en-US" sz="4800" spc="-1" strike="noStrike">
                <a:solidFill>
                  <a:srgbClr val="49433e"/>
                </a:solidFill>
                <a:latin typeface="Gill Sans"/>
                <a:ea typeface="Gill Sans"/>
              </a:rPr>
              <a:t>models</a:t>
            </a:r>
            <a:r>
              <a:rPr b="0" lang="en-US" sz="4800" spc="-1" strike="noStrike">
                <a:solidFill>
                  <a:srgbClr val="49433e"/>
                </a:solidFill>
                <a:latin typeface="Gill Sans Light"/>
              </a:rPr>
              <a:t>: Teaching Reading  Comprehension </a:t>
            </a:r>
            <a:endParaRPr b="0" lang="en-US" sz="48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7988400" y="4419720"/>
            <a:ext cx="4572000" cy="30477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8800" y="6845400"/>
            <a:ext cx="10922040" cy="1270080"/>
          </a:xfrm>
          <a:prstGeom prst="rect">
            <a:avLst/>
          </a:prstGeom>
          <a:solidFill>
            <a:srgbClr val="001445"/>
          </a:solidFill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Jeta Donovan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February 23rd, 2012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445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Agenda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What is Tovani’s Model of Reading?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obable Passage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hink Aloud Protocol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Prompt Group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445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Information-Processing Model of Reading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2108160" y="2755800"/>
            <a:ext cx="8790120" cy="53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445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Reader Response Theory of Reading 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101680" y="2620800"/>
            <a:ext cx="9131400" cy="544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445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Tovani’s Instructional MOdel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Interesting, appropriate texts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Explicit Modeling of thinking Processes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Define a purpose of reading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each students how to hold and use their thinking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f67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Probable Passage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1120" y="2768760"/>
            <a:ext cx="10922040" cy="6502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33e"/>
                </a:solidFill>
                <a:latin typeface="Bradley Hand ITC TT-Bold"/>
              </a:rPr>
              <a:t>Robert F. Kennedy, angelic, political junkie, taco bender, Hungry, heat, Anguished, Prayer, Celebrity, compassion, Immigrant, Callused, Asphalt </a:t>
            </a:r>
            <a:endParaRPr b="0" lang="en-US" sz="36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Use these terms to fill in boxes of characters, problem, setting, Outcomes, and Unknown words. Use Categorizations to come up with a ‘gist statement that summarizes what the passage will be about. Finally, outline three questions or wonderings you want to discover while you read.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f67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Think Aloud Protocol 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48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Select a short, accessible passage for the reader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sk the reader to stop several times while reading to tell you what he/she is thinking at that moment.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If they don’t stop, interrupt them and remind them to stop!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Take notes: record quotes and summaries of what the reader tells you. 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33e"/>
                </a:solidFill>
                <a:latin typeface="Bradley Hand ITC TT-Bold"/>
              </a:rPr>
              <a:t>Analyze their reading...</a:t>
            </a:r>
            <a:endParaRPr b="0" lang="en-US" sz="2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41120" y="520200"/>
            <a:ext cx="10922040" cy="1651320"/>
          </a:xfrm>
          <a:prstGeom prst="rect">
            <a:avLst/>
          </a:prstGeom>
          <a:solidFill>
            <a:srgbClr val="001f67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49433e"/>
                </a:solidFill>
                <a:latin typeface="Gill Sans Light"/>
              </a:rPr>
              <a:t>Think Aloud Analysis</a:t>
            </a:r>
            <a:endParaRPr b="0" lang="en-US" sz="5200" spc="-1" strike="noStrike">
              <a:solidFill>
                <a:srgbClr val="49433e"/>
              </a:solidFill>
              <a:latin typeface="Gill Sans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041480" y="2768760"/>
            <a:ext cx="4533840" cy="622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9433e"/>
                </a:solidFill>
                <a:uFillTx/>
                <a:latin typeface="Bradley Hand ITC TT-Bold"/>
              </a:rPr>
              <a:t>Thinking Strategies used by proficient Readers</a:t>
            </a:r>
            <a:endParaRPr b="0" lang="en-US" sz="20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Activating background knowledge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Self-questioning 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Drawing inferences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Determining Importance 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Employing fix-up Strategies 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Using sensory images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3200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</a:rPr>
              <a:t>synthesizing and expanding thinking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</p:txBody>
      </p:sp>
      <p:sp>
        <p:nvSpPr>
          <p:cNvPr id="511" name=""/>
          <p:cNvSpPr/>
          <p:nvPr/>
        </p:nvSpPr>
        <p:spPr>
          <a:xfrm>
            <a:off x="6437160" y="2940120"/>
            <a:ext cx="515628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49433e"/>
                </a:solidFill>
                <a:uFillTx/>
                <a:latin typeface="Bradley Hand ITC TT-Bold"/>
                <a:ea typeface="Bradley Hand ITC TT-Bold"/>
              </a:rPr>
              <a:t>FIX-UP STRATEGIES</a:t>
            </a:r>
            <a:endParaRPr b="0" lang="en-US" sz="20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MAKE A CONNECTION BETWEEN TEXT, LIFE, WORLD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MAKE A PREDICTION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STOP AND THINK ABOUT WHAT YOU’VE ALREADY READ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ASK YOURSELF A QUESTION, TRY TO ANSWER IT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REFLECT IN WRITING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VISUALIZE 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USE PRINT CONVENTIONS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RETELL WHAT YOU’VE READ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REREAD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NOTICE PATTERNS IN TEXT STRUCTURE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  <a:p>
            <a:pPr marL="571680" indent="-571680">
              <a:lnSpc>
                <a:spcPct val="100000"/>
              </a:lnSpc>
              <a:spcBef>
                <a:spcPts val="1100"/>
              </a:spcBef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33e"/>
                </a:solidFill>
                <a:latin typeface="Bradley Hand ITC TT-Bold"/>
                <a:ea typeface="Bradley Hand ITC TT-Bold"/>
              </a:rPr>
              <a:t>ADJUST READING RATE</a:t>
            </a:r>
            <a:endParaRPr b="0" lang="en-US" sz="1800" spc="-1" strike="noStrike">
              <a:solidFill>
                <a:srgbClr val="49433e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