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87320" y="253800"/>
            <a:ext cx="1143000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87320" y="5753520"/>
            <a:ext cx="11430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4160" y="276840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8732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44160" y="5753520"/>
            <a:ext cx="5577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9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516520" y="276840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873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6519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516520" y="5753520"/>
            <a:ext cx="36802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6960" y="1371240"/>
            <a:ext cx="1130292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6960" y="4863600"/>
            <a:ext cx="1130292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87320" y="365724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87320" y="1383840"/>
            <a:ext cx="5143680" cy="350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87320" y="4876560"/>
            <a:ext cx="5143680" cy="3009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spcBef>
                <a:spcPts val="1199"/>
              </a:spcBef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spcBef>
                <a:spcPts val="1199"/>
              </a:spcBef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87320" y="6806880"/>
            <a:ext cx="1143000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87320" y="8013240"/>
            <a:ext cx="1143000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Click to edit the outline text format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1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con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2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Third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3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our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4">
              <a:buClr>
                <a:srgbClr val="62b0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Fif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5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ix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lvl="6">
              <a:buClr>
                <a:srgbClr val="ffffff"/>
              </a:buClr>
              <a:buFont typeface="Helvetica Neue Ligh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2b0ff"/>
                </a:solidFill>
                <a:latin typeface="Helvetica Neue Light"/>
              </a:rPr>
              <a:t>Seventh Outline Level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5143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73640" y="2768400"/>
            <a:ext cx="5143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330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655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02024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38492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1749600" indent="-33300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4300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Neue Light"/>
              </a:rPr>
              <a:t>Click to edit the title text format</a:t>
            </a:r>
            <a:endParaRPr b="0" lang="en-US" sz="72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40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7920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319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7220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12120" indent="-402120">
              <a:spcBef>
                <a:spcPts val="2401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787320" y="1371240"/>
            <a:ext cx="11430000" cy="701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1" marL="80028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2" marL="12445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3" marL="16891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4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5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lvl="6" marL="2133720" indent="-406440">
              <a:spcBef>
                <a:spcPts val="3600"/>
              </a:spcBef>
              <a:buClr>
                <a:srgbClr val="ffffff"/>
              </a:buClr>
              <a:buSzPct val="46000"/>
              <a:buFont typeface="Helvetica Neue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079280" y="5320800"/>
            <a:ext cx="11302920" cy="143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4714"/>
                </a:solidFill>
                <a:latin typeface="Helvetica Neue Light"/>
              </a:rPr>
              <a:t>Jeta Donovan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4714"/>
                </a:solidFill>
                <a:latin typeface="Helvetica Neue Light"/>
              </a:rPr>
              <a:t>February 2, 2012</a:t>
            </a:r>
            <a:endParaRPr b="0" lang="en-US" sz="4200" spc="-1" strike="noStrike">
              <a:solidFill>
                <a:srgbClr val="62b0ff"/>
              </a:solidFill>
              <a:latin typeface="Helvetica Neue Light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1295280" y="1041480"/>
            <a:ext cx="4970520" cy="332748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4355640" y="2425320"/>
            <a:ext cx="7962840" cy="2311560"/>
          </a:xfrm>
          <a:prstGeom prst="rect">
            <a:avLst/>
          </a:prstGeom>
          <a:solidFill>
            <a:srgbClr val="2b4714"/>
          </a:solidFill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Getting Richer: Increasing Reading Skills and Volume in Struggling Readers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Graffiti (15 min.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rompt (20 min.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anking Evidence (30 min.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rompt (20 min.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A-Z Information (15 min.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7"/>
          <a:stretch/>
        </p:blipFill>
        <p:spPr>
          <a:xfrm>
            <a:off x="968400" y="822240"/>
            <a:ext cx="2679840" cy="17938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2958840" y="558360"/>
            <a:ext cx="9258120" cy="1320840"/>
          </a:xfrm>
          <a:prstGeom prst="rect">
            <a:avLst/>
          </a:prstGeom>
          <a:solidFill>
            <a:srgbClr val="2b4714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Go around the room and stand next to the topic poster you are most interested in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ell someone in your group why you’re interested in this topic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ell someone in your group why other people DO NOT like this topic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Turn these negative comments into graffiti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2958840" y="558360"/>
            <a:ext cx="9258120" cy="1320840"/>
          </a:xfrm>
          <a:prstGeom prst="rect">
            <a:avLst/>
          </a:prstGeom>
          <a:solidFill>
            <a:srgbClr val="2b4714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Graffiti 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6"/>
          <a:stretch/>
        </p:blipFill>
        <p:spPr>
          <a:xfrm>
            <a:off x="968400" y="822240"/>
            <a:ext cx="267984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6591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Position statement: Reading volume is one of the central factors in students reading growth and overall academic achievement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Each group will be given one piece of evidence to support this position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Your group must prepare a 2 min. presentation that persuades us that your piece of evidence is THE MOST CONVINCING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Rank “persuasiveness” of evidence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2958840" y="558360"/>
            <a:ext cx="9258120" cy="1320840"/>
          </a:xfrm>
          <a:prstGeom prst="rect">
            <a:avLst/>
          </a:prstGeom>
          <a:solidFill>
            <a:srgbClr val="2b4714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Ranking Evidence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6"/>
          <a:stretch/>
        </p:blipFill>
        <p:spPr>
          <a:xfrm>
            <a:off x="968400" y="822240"/>
            <a:ext cx="267984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Each group will be assigned an idea/topic from the reading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In your group, you will have to write a sentence that describes your topic and begins with corresponding letter of the alphabet (A, B, C....)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Each sentence must be a unique description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2958840" y="558360"/>
            <a:ext cx="9258120" cy="1320840"/>
          </a:xfrm>
          <a:prstGeom prst="rect">
            <a:avLst/>
          </a:prstGeom>
          <a:solidFill>
            <a:srgbClr val="2b4714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A-Z Information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>
            <a:off x="968400" y="822240"/>
            <a:ext cx="2679840" cy="17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787320" y="2768400"/>
            <a:ext cx="11430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24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 Neue Light"/>
              </a:rPr>
              <a:t>A-Z topics: Teaching of Writing, Learning-Centered Instruction, Girls’ Struggles with Reading, Boys Struggles’ with Reading, Classroom Discourse, Teaching Writing to Language Minority Students. </a:t>
            </a:r>
            <a:endParaRPr b="0" lang="en-US" sz="3600" spc="-1" strike="noStrike">
              <a:solidFill>
                <a:srgbClr val="ffffff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2958840" y="558360"/>
            <a:ext cx="9258120" cy="1320840"/>
          </a:xfrm>
          <a:prstGeom prst="rect">
            <a:avLst/>
          </a:prstGeom>
          <a:solidFill>
            <a:srgbClr val="2b4714"/>
          </a:solidFill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Helvetica Neue Light"/>
              </a:rPr>
              <a:t>A-Z Information</a:t>
            </a:r>
            <a:endParaRPr b="0" lang="en-US" sz="4800" spc="-1" strike="noStrike">
              <a:solidFill>
                <a:srgbClr val="ffffff"/>
              </a:solidFill>
              <a:latin typeface="Helvetica Neue Light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968400" y="822240"/>
            <a:ext cx="2679840" cy="1793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