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63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04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05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44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45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1041120" y="253800"/>
            <a:ext cx="109220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1041120" y="57535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637680" y="27684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104112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637680" y="57535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3364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8426520" y="27684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10411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473364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8426520" y="57535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22000" y="7861320"/>
            <a:ext cx="1054116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0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41120" y="365724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9000"/>
          </a:bodyPr>
          <a:p>
            <a:pPr marL="384120" indent="-38412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734400" indent="-38412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2" marL="1130040" indent="-3844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3" marL="1526040" indent="-3844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4" marL="1921320" indent="-38412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5" marL="1921320" indent="-38412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6" marL="1921320" indent="-38412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422000" y="3568320"/>
            <a:ext cx="10541160" cy="2629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63" name=""/>
          <p:cNvSpPr/>
          <p:nvPr/>
        </p:nvSpPr>
        <p:spPr>
          <a:xfrm>
            <a:off x="277920" y="835668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body"/>
          </p:nvPr>
        </p:nvSpPr>
        <p:spPr>
          <a:xfrm>
            <a:off x="367920" y="9016920"/>
            <a:ext cx="10845720" cy="43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title"/>
          </p:nvPr>
        </p:nvSpPr>
        <p:spPr>
          <a:xfrm>
            <a:off x="367920" y="8368920"/>
            <a:ext cx="10845720" cy="66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42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03" name=""/>
          <p:cNvSpPr/>
          <p:nvPr/>
        </p:nvSpPr>
        <p:spPr>
          <a:xfrm>
            <a:off x="277920" y="835668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body"/>
          </p:nvPr>
        </p:nvSpPr>
        <p:spPr>
          <a:xfrm>
            <a:off x="367920" y="9016920"/>
            <a:ext cx="10845720" cy="43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title"/>
          </p:nvPr>
        </p:nvSpPr>
        <p:spPr>
          <a:xfrm>
            <a:off x="367920" y="8368920"/>
            <a:ext cx="10845720" cy="66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42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43" name=""/>
          <p:cNvSpPr/>
          <p:nvPr/>
        </p:nvSpPr>
        <p:spPr>
          <a:xfrm>
            <a:off x="277920" y="835668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body"/>
          </p:nvPr>
        </p:nvSpPr>
        <p:spPr>
          <a:xfrm>
            <a:off x="367920" y="9016920"/>
            <a:ext cx="10845720" cy="43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title"/>
          </p:nvPr>
        </p:nvSpPr>
        <p:spPr>
          <a:xfrm>
            <a:off x="367920" y="8368920"/>
            <a:ext cx="10845720" cy="66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42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83" name=""/>
          <p:cNvSpPr/>
          <p:nvPr/>
        </p:nvSpPr>
        <p:spPr>
          <a:xfrm>
            <a:off x="277920" y="835668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body"/>
          </p:nvPr>
        </p:nvSpPr>
        <p:spPr>
          <a:xfrm>
            <a:off x="367920" y="9016920"/>
            <a:ext cx="10845720" cy="43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title"/>
          </p:nvPr>
        </p:nvSpPr>
        <p:spPr>
          <a:xfrm>
            <a:off x="367920" y="8368920"/>
            <a:ext cx="10845720" cy="66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42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body"/>
          </p:nvPr>
        </p:nvSpPr>
        <p:spPr>
          <a:xfrm>
            <a:off x="1422000" y="8115120"/>
            <a:ext cx="10845720" cy="74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3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Click to edit the outline text format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1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Second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2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Third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3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Four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4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Fif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Six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Seven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23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24" name=""/>
          <p:cNvSpPr/>
          <p:nvPr/>
        </p:nvSpPr>
        <p:spPr>
          <a:xfrm>
            <a:off x="277920" y="891540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25" name=""/>
          <p:cNvSpPr/>
          <p:nvPr/>
        </p:nvSpPr>
        <p:spPr>
          <a:xfrm>
            <a:off x="5256360" y="8902800"/>
            <a:ext cx="0" cy="59688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26" name=""/>
          <p:cNvSpPr/>
          <p:nvPr/>
        </p:nvSpPr>
        <p:spPr>
          <a:xfrm>
            <a:off x="277920" y="718812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title"/>
          </p:nvPr>
        </p:nvSpPr>
        <p:spPr>
          <a:xfrm>
            <a:off x="1422000" y="7099200"/>
            <a:ext cx="10845720" cy="102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body"/>
          </p:nvPr>
        </p:nvSpPr>
        <p:spPr>
          <a:xfrm>
            <a:off x="1422000" y="8115120"/>
            <a:ext cx="10845720" cy="74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3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Click to edit the outline text format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1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Second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2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Third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3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Four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4">
              <a:buClr>
                <a:srgbClr val="d5d4d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Fif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Six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d5d4d6"/>
                </a:solidFill>
                <a:latin typeface="Helvetica Neue Bold Condensed"/>
              </a:rPr>
              <a:t>Seventh Outline Level</a:t>
            </a:r>
            <a:endParaRPr b="0" lang="en-US" sz="4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65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66" name=""/>
          <p:cNvSpPr/>
          <p:nvPr/>
        </p:nvSpPr>
        <p:spPr>
          <a:xfrm>
            <a:off x="277920" y="891540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67" name=""/>
          <p:cNvSpPr/>
          <p:nvPr/>
        </p:nvSpPr>
        <p:spPr>
          <a:xfrm>
            <a:off x="5256360" y="8902800"/>
            <a:ext cx="0" cy="59688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68" name=""/>
          <p:cNvSpPr/>
          <p:nvPr/>
        </p:nvSpPr>
        <p:spPr>
          <a:xfrm>
            <a:off x="277920" y="718812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title"/>
          </p:nvPr>
        </p:nvSpPr>
        <p:spPr>
          <a:xfrm>
            <a:off x="1422000" y="7099200"/>
            <a:ext cx="10845720" cy="1028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7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07" name=""/>
          <p:cNvSpPr/>
          <p:nvPr/>
        </p:nvSpPr>
        <p:spPr>
          <a:xfrm>
            <a:off x="277920" y="8356680"/>
            <a:ext cx="1245852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body"/>
          </p:nvPr>
        </p:nvSpPr>
        <p:spPr>
          <a:xfrm>
            <a:off x="367920" y="9016920"/>
            <a:ext cx="10845720" cy="43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title"/>
          </p:nvPr>
        </p:nvSpPr>
        <p:spPr>
          <a:xfrm>
            <a:off x="367920" y="8368920"/>
            <a:ext cx="10845720" cy="66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42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384120" indent="-38412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734400" indent="-38412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2" marL="1130040" indent="-3844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3" marL="1526040" indent="-3844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4" marL="1921320" indent="-38412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5" marL="1921320" indent="-38412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6" marL="1921320" indent="-38412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1041480" y="2768400"/>
            <a:ext cx="53337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33228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63540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2" marL="977760" indent="-33264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3" marL="1320120" indent="-33264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4" marL="166212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5" marL="1662120" indent="-33228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6" marL="1662120" indent="-33228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1041480" y="2768400"/>
            <a:ext cx="53337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33228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63540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2" marL="977760" indent="-33264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3" marL="1320120" indent="-33264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4" marL="166212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5" marL="1662120" indent="-33228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6" marL="1662120" indent="-33228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41480" y="2018880"/>
            <a:ext cx="5333760" cy="287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7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1041480" y="4876560"/>
            <a:ext cx="5333760" cy="2857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5000"/>
          </a:bodyPr>
          <a:p>
            <a:pPr indent="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>
              <a:lnSpc>
                <a:spcPct val="110000"/>
              </a:lnSpc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>
              <a:lnSpc>
                <a:spcPct val="110000"/>
              </a:lnSpc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>
              <a:lnSpc>
                <a:spcPct val="110000"/>
              </a:lnSpc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>
              <a:lnSpc>
                <a:spcPct val="110000"/>
              </a:lnSpc>
              <a:buClr>
                <a:srgbClr val="5483a6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>
              <a:lnSpc>
                <a:spcPct val="110000"/>
              </a:lnSpc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>
              <a:lnSpc>
                <a:spcPct val="110000"/>
              </a:lnSpc>
              <a:buClr>
                <a:srgbClr val="4a7594"/>
              </a:buClr>
              <a:buFont typeface="Helvetica Neue Bold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3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629040" y="2768400"/>
            <a:ext cx="53341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33228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63540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2" marL="977760" indent="-33264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3" marL="1320120" indent="-33264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4" marL="1662120" indent="-332280">
              <a:spcBef>
                <a:spcPts val="3200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5" marL="1662120" indent="-33228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6" marL="1662120" indent="-332280">
              <a:spcBef>
                <a:spcPts val="3200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1041120" y="1472760"/>
            <a:ext cx="10922040" cy="6807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384120" indent="-384120">
              <a:spcBef>
                <a:spcPts val="47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1" marL="734400" indent="-384120">
              <a:spcBef>
                <a:spcPts val="47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2" marL="1130040" indent="-384480">
              <a:spcBef>
                <a:spcPts val="47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3" marL="1526040" indent="-384480">
              <a:spcBef>
                <a:spcPts val="47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4" marL="1921320" indent="-384120">
              <a:spcBef>
                <a:spcPts val="47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5" marL="1921320" indent="-384120">
              <a:spcBef>
                <a:spcPts val="4799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lvl="6" marL="1921320" indent="-384120">
              <a:spcBef>
                <a:spcPts val="4799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82600" y="279360"/>
            <a:ext cx="12445920" cy="922032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220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357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422000" y="5245200"/>
            <a:ext cx="10541160" cy="2628720"/>
          </a:xfrm>
          <a:prstGeom prst="rect">
            <a:avLst/>
          </a:prstGeom>
          <a:solidFill>
            <a:srgbClr val="ffff33"/>
          </a:solidFill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d5d4d6"/>
                </a:solidFill>
                <a:latin typeface="Helvetica Neue Bold Condensed"/>
              </a:rPr>
              <a:t>Academic Language</a:t>
            </a:r>
            <a:endParaRPr b="0" lang="en-US" sz="76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422000" y="7861320"/>
            <a:ext cx="10541160" cy="161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483a6"/>
                </a:solidFill>
                <a:latin typeface="Helvetica Neue Bold Condensed"/>
              </a:rPr>
              <a:t>Jeta Donovan</a:t>
            </a:r>
            <a:endParaRPr b="0" lang="en-US" sz="4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2"/>
          <a:stretch/>
        </p:blipFill>
        <p:spPr>
          <a:xfrm>
            <a:off x="644400" y="3137040"/>
            <a:ext cx="5210280" cy="346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9" name="" descr=""/>
          <p:cNvPicPr/>
          <p:nvPr/>
        </p:nvPicPr>
        <p:blipFill>
          <a:blip r:embed="rId2"/>
          <a:stretch/>
        </p:blipFill>
        <p:spPr>
          <a:xfrm>
            <a:off x="860400" y="380880"/>
            <a:ext cx="3778200" cy="2514600"/>
          </a:xfrm>
          <a:prstGeom prst="rect">
            <a:avLst/>
          </a:prstGeom>
          <a:ln w="0">
            <a:noFill/>
          </a:ln>
        </p:spPr>
      </p:pic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390480" y="596520"/>
            <a:ext cx="8775720" cy="1739880"/>
          </a:xfrm>
          <a:prstGeom prst="rect">
            <a:avLst/>
          </a:prstGeom>
          <a:solidFill>
            <a:srgbClr val="ffff3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4a7594"/>
                </a:solidFill>
                <a:latin typeface="Helvetica Neue Light"/>
              </a:rPr>
              <a:t>Agenda</a:t>
            </a:r>
            <a:endParaRPr b="0" lang="en-US" sz="7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800280" y="2971440"/>
            <a:ext cx="10921680" cy="5778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Mid-Term Feedback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Dr. George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Timed Topic Talks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Pro-Con Math Debate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Gee Small Group Discussion 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Prompts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0">
              <a:lnSpc>
                <a:spcPct val="100000"/>
              </a:lnSpc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669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Take 5 minutes to look at the research data I’m passing out to you. Web address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Helvetica Neue"/>
              </a:rPr>
              <a:t>http://nationsreportcard.gov/math_2009/district_context_1_district.asp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Partner Up! Select a Partner A and Partner B.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I will call out a topic, and say “Go.” Partner A will have one minute to say everything they know about that topic. Your discussion MUST include “numerical facts.” After one minute, I will say switch and Partner B will discuss everything they know about this topic for one minute. 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Topics: Time spent on math in 8th grade classrooms, 8th graders using calculators in math classrooms, math teachers level of education, Computer/Technology Use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pic>
        <p:nvPicPr>
          <p:cNvPr id="753" name="" descr=""/>
          <p:cNvPicPr/>
          <p:nvPr/>
        </p:nvPicPr>
        <p:blipFill>
          <a:blip r:embed="rId6"/>
          <a:stretch/>
        </p:blipFill>
        <p:spPr>
          <a:xfrm>
            <a:off x="860400" y="380880"/>
            <a:ext cx="3778200" cy="2514600"/>
          </a:xfrm>
          <a:prstGeom prst="rect">
            <a:avLst/>
          </a:prstGeom>
          <a:ln w="0">
            <a:noFill/>
          </a:ln>
        </p:spPr>
      </p:pic>
      <p:sp>
        <p:nvSpPr>
          <p:cNvPr id="754" name="PlaceHolder 2"/>
          <p:cNvSpPr>
            <a:spLocks noGrp="1"/>
          </p:cNvSpPr>
          <p:nvPr>
            <p:ph type="title"/>
          </p:nvPr>
        </p:nvSpPr>
        <p:spPr>
          <a:xfrm>
            <a:off x="3390480" y="596520"/>
            <a:ext cx="8775720" cy="2133720"/>
          </a:xfrm>
          <a:prstGeom prst="rect">
            <a:avLst/>
          </a:prstGeom>
          <a:solidFill>
            <a:srgbClr val="ffff3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a7594"/>
                </a:solidFill>
                <a:latin typeface="Helvetica Neue Light"/>
              </a:rPr>
              <a:t>Timed Topic Talks </a:t>
            </a:r>
            <a:endParaRPr b="0" lang="en-US" sz="64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6692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Partner A is Pro. Partner B is Con. 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Pro: New York City public schools are succeeding mathematics instruction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Con: New York City public schools are failing in mathematics instruction.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Your pro/con statement should state your position and provide at least 3 supporting reasons. Your supporting reasons should include “numerical facts”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You will have 5 minutes to write your Pro/Con Statement. Then you’ll share with your partner.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pic>
        <p:nvPicPr>
          <p:cNvPr id="756" name="" descr=""/>
          <p:cNvPicPr/>
          <p:nvPr/>
        </p:nvPicPr>
        <p:blipFill>
          <a:blip r:embed="rId7"/>
          <a:stretch/>
        </p:blipFill>
        <p:spPr>
          <a:xfrm>
            <a:off x="860400" y="380880"/>
            <a:ext cx="3778200" cy="2514600"/>
          </a:xfrm>
          <a:prstGeom prst="rect">
            <a:avLst/>
          </a:prstGeom>
          <a:ln w="0">
            <a:noFill/>
          </a:ln>
        </p:spPr>
      </p:pic>
      <p:sp>
        <p:nvSpPr>
          <p:cNvPr id="757" name="PlaceHolder 2"/>
          <p:cNvSpPr>
            <a:spLocks noGrp="1"/>
          </p:cNvSpPr>
          <p:nvPr>
            <p:ph type="title"/>
          </p:nvPr>
        </p:nvSpPr>
        <p:spPr>
          <a:xfrm>
            <a:off x="3390480" y="596520"/>
            <a:ext cx="8775720" cy="2133720"/>
          </a:xfrm>
          <a:prstGeom prst="rect">
            <a:avLst/>
          </a:prstGeom>
          <a:solidFill>
            <a:srgbClr val="ffff3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a7594"/>
                </a:solidFill>
                <a:latin typeface="Helvetica Neue Light"/>
              </a:rPr>
              <a:t>Pro/Con Statements</a:t>
            </a:r>
            <a:endParaRPr b="0" lang="en-US" sz="64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My Position is........................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Many people think that..............because...............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However, I think that...............because...............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Also because.......................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In short, ...................because..................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pic>
        <p:nvPicPr>
          <p:cNvPr id="759" name="" descr=""/>
          <p:cNvPicPr/>
          <p:nvPr/>
        </p:nvPicPr>
        <p:blipFill>
          <a:blip r:embed="rId7"/>
          <a:stretch/>
        </p:blipFill>
        <p:spPr>
          <a:xfrm>
            <a:off x="860400" y="380880"/>
            <a:ext cx="3778200" cy="2514600"/>
          </a:xfrm>
          <a:prstGeom prst="rect">
            <a:avLst/>
          </a:prstGeom>
          <a:ln w="0">
            <a:noFill/>
          </a:ln>
        </p:spPr>
      </p:pic>
      <p:sp>
        <p:nvSpPr>
          <p:cNvPr id="760" name="PlaceHolder 2"/>
          <p:cNvSpPr>
            <a:spLocks noGrp="1"/>
          </p:cNvSpPr>
          <p:nvPr>
            <p:ph type="title"/>
          </p:nvPr>
        </p:nvSpPr>
        <p:spPr>
          <a:xfrm>
            <a:off x="3390480" y="596520"/>
            <a:ext cx="8775720" cy="2133720"/>
          </a:xfrm>
          <a:prstGeom prst="rect">
            <a:avLst/>
          </a:prstGeom>
          <a:solidFill>
            <a:srgbClr val="ffff3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a7594"/>
                </a:solidFill>
                <a:latin typeface="Helvetica Neue Light"/>
              </a:rPr>
              <a:t>Pro/Con Skeleton </a:t>
            </a:r>
            <a:endParaRPr b="0" lang="en-US" sz="64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633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9000"/>
          </a:bodyPr>
          <a:p>
            <a:pPr marL="427320" indent="-42732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Discourse  vs. discourse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27320" indent="-42732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“</a:t>
            </a: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Discourses are ways of behaving, interacting, valuing, thinking, believing, speaking, and often reading and writing, that are accepted as instantiations of particular identities”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27320" indent="-42732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“</a:t>
            </a: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Discourses are ways of being ‘people like us.’ They are ways of being int he world’; they are socially situated identities. They are, thus, always and everywhere social and products of social histories. 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pic>
        <p:nvPicPr>
          <p:cNvPr id="762" name="" descr=""/>
          <p:cNvPicPr/>
          <p:nvPr/>
        </p:nvPicPr>
        <p:blipFill>
          <a:blip r:embed="rId5"/>
          <a:stretch/>
        </p:blipFill>
        <p:spPr>
          <a:xfrm>
            <a:off x="860400" y="380880"/>
            <a:ext cx="3778200" cy="2514600"/>
          </a:xfrm>
          <a:prstGeom prst="rect">
            <a:avLst/>
          </a:prstGeom>
          <a:ln w="0">
            <a:noFill/>
          </a:ln>
        </p:spPr>
      </p:pic>
      <p:sp>
        <p:nvSpPr>
          <p:cNvPr id="763" name="PlaceHolder 2"/>
          <p:cNvSpPr>
            <a:spLocks noGrp="1"/>
          </p:cNvSpPr>
          <p:nvPr>
            <p:ph type="title"/>
          </p:nvPr>
        </p:nvSpPr>
        <p:spPr>
          <a:xfrm>
            <a:off x="3390480" y="596520"/>
            <a:ext cx="8775720" cy="2133720"/>
          </a:xfrm>
          <a:prstGeom prst="rect">
            <a:avLst/>
          </a:prstGeom>
          <a:solidFill>
            <a:srgbClr val="ffff3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a7594"/>
                </a:solidFill>
                <a:latin typeface="Helvetica Neue Light"/>
              </a:rPr>
              <a:t>Gee</a:t>
            </a:r>
            <a:endParaRPr b="0" lang="en-US" sz="64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633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Primary vs. Secondary discourse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No language is monolithic but is instead up of a variety of “social languages”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Primary discourses “are those to which people are apprenticed early in life during their primary socialization”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econdary Discourses are those “to which people are apprenticed as part of their socializations within various local, state, and national groups”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Many secondary discourses are appropriated into primary discourses 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pic>
        <p:nvPicPr>
          <p:cNvPr id="765" name="" descr=""/>
          <p:cNvPicPr/>
          <p:nvPr/>
        </p:nvPicPr>
        <p:blipFill>
          <a:blip r:embed="rId7"/>
          <a:stretch/>
        </p:blipFill>
        <p:spPr>
          <a:xfrm>
            <a:off x="860400" y="380880"/>
            <a:ext cx="3778200" cy="2514600"/>
          </a:xfrm>
          <a:prstGeom prst="rect">
            <a:avLst/>
          </a:prstGeom>
          <a:ln w="0">
            <a:noFill/>
          </a:ln>
        </p:spPr>
      </p:pic>
      <p:sp>
        <p:nvSpPr>
          <p:cNvPr id="766" name="PlaceHolder 2"/>
          <p:cNvSpPr>
            <a:spLocks noGrp="1"/>
          </p:cNvSpPr>
          <p:nvPr>
            <p:ph type="title"/>
          </p:nvPr>
        </p:nvSpPr>
        <p:spPr>
          <a:xfrm>
            <a:off x="3390480" y="596520"/>
            <a:ext cx="8775720" cy="2133720"/>
          </a:xfrm>
          <a:prstGeom prst="rect">
            <a:avLst/>
          </a:prstGeom>
          <a:solidFill>
            <a:srgbClr val="ffff3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a7594"/>
                </a:solidFill>
                <a:latin typeface="Helvetica Neue Light"/>
              </a:rPr>
              <a:t>Gee</a:t>
            </a:r>
            <a:endParaRPr b="0" lang="en-US" sz="64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/>
          </p:nvPr>
        </p:nvSpPr>
        <p:spPr>
          <a:xfrm>
            <a:off x="1041120" y="27684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How do the ideas of Primary and Secondary Discourse relate to BICS and CALPS?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What role does Big D Discourse play in the invisible criteria we use to evaluate students’ language? 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1"/>
                </a:solidFill>
                <a:latin typeface="Helvetica Neue"/>
              </a:rPr>
              <a:t>How does Primary and Secondary Discourse fit into Zwiers’ concept of Linguistic Capital? </a:t>
            </a:r>
            <a:endParaRPr b="0" lang="en-US" sz="3600" spc="-1" strike="noStrike">
              <a:solidFill>
                <a:srgbClr val="646461"/>
              </a:solidFill>
              <a:latin typeface="Helvetica Neue"/>
            </a:endParaRPr>
          </a:p>
        </p:txBody>
      </p:sp>
      <p:pic>
        <p:nvPicPr>
          <p:cNvPr id="768" name="" descr=""/>
          <p:cNvPicPr/>
          <p:nvPr/>
        </p:nvPicPr>
        <p:blipFill>
          <a:blip r:embed="rId5"/>
          <a:stretch/>
        </p:blipFill>
        <p:spPr>
          <a:xfrm>
            <a:off x="860400" y="380880"/>
            <a:ext cx="3778200" cy="2514600"/>
          </a:xfrm>
          <a:prstGeom prst="rect">
            <a:avLst/>
          </a:prstGeom>
          <a:ln w="0">
            <a:noFill/>
          </a:ln>
        </p:spPr>
      </p:pic>
      <p:sp>
        <p:nvSpPr>
          <p:cNvPr id="769" name="PlaceHolder 2"/>
          <p:cNvSpPr>
            <a:spLocks noGrp="1"/>
          </p:cNvSpPr>
          <p:nvPr>
            <p:ph type="title"/>
          </p:nvPr>
        </p:nvSpPr>
        <p:spPr>
          <a:xfrm>
            <a:off x="3390480" y="596520"/>
            <a:ext cx="8775720" cy="2133720"/>
          </a:xfrm>
          <a:prstGeom prst="rect">
            <a:avLst/>
          </a:prstGeom>
          <a:solidFill>
            <a:srgbClr val="ffff33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407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a7594"/>
                </a:solidFill>
                <a:latin typeface="Helvetica Neue Light"/>
              </a:rPr>
              <a:t>Gee</a:t>
            </a:r>
            <a:endParaRPr b="0" lang="en-US" sz="64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